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43D68-6DA6-4531-AB0D-11052E1D1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97CB-3E86-4FB4-AEB1-560B33ED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3698A-4890-4E51-9C36-448C5CAE2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CB65A-53F5-43BE-9EC2-31D22AE3C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70BD5-98AF-401D-860B-8BFA63E5C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BF3E5-E6BB-49AF-B416-C98083418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919D6-79DC-4497-861D-2FCE9F02C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3702C-B101-43AD-B7D9-740791F00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09AE3-E897-45BE-A6D7-B75015F80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EA749-0178-4E0B-8ED0-E70866F9F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047D1-FC19-4E8A-8A5A-C98AE1C6D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06E01-A17A-4A57-ABAC-94DD2261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5D93F-A1CC-4FFA-9C87-525643B6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1DBCD-7D39-4DF6-BA11-5A522A985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FBBEC-6F5E-4931-9BB1-69AAF3430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278F9-AFBA-4021-88AA-001A618D4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62B1A-D7F2-4055-86C0-C7D71C093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A9DE-33AE-47FC-849C-83B051511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9640A-35E8-477B-BB17-A5DDD5DD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2EFB-053F-4558-97B1-378AAE38D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24ED-106B-401B-B200-1EE05745D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D676-1651-4125-8769-6EED770E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6989D-F44B-4C04-9888-C36FB778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6D08D-9925-464D-AA16-B077A3E0F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3B12-3698-405E-953A-09D28182C5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9CE3-1A14-4B9D-B8FF-D8D29A105F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UNITATEA ŞI DIVERSITATEA LUMII VII</a:t>
            </a:r>
            <a:endParaRPr b="0" lang="en-US" sz="1400" spc="-1" strike="noStrike">
              <a:solidFill>
                <a:srgbClr val="ffff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lum contrast="-48000"/>
          </a:blip>
          <a:stretch/>
        </p:blipFill>
        <p:spPr>
          <a:xfrm>
            <a:off x="5638680" y="1752480"/>
            <a:ext cx="155916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17</cp:lastModifiedBy>
  <dcterms:modified xsi:type="dcterms:W3CDTF">2012-06-19T11:10:05Z</dcterms:modified>
  <cp:revision>34</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